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D63-5895-4B1F-9114-A974B5C6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2EC-7DED-4B98-ABB5-42F7683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1D-B481-429D-B5AF-96408387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B5E-455B-4BC3-A30F-76ED774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AC7F-EEB5-4010-94E9-EBBFB0DA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A51-4E00-47CE-ABD0-BD7E2F78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1BDE-59FA-449A-84EE-68FE5676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32D-2079-4137-86D0-FC04DB26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55B-F26D-4A1F-BC13-95AF73CB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E87-5C87-4FC7-BF54-4CC78B9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BA2-F5F4-4E88-AEBB-E6CC3E20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8DEE-A634-4F98-BC31-8FAC430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BA15-A92D-4EFD-98CB-617714765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Arial"/>
              </a:rPr>
              <a:t>Meine Reise nach </a:t>
            </a:r>
            <a:r>
              <a:rPr b="0" lang="de-DE" sz="4400" spc="-1" strike="noStrike">
                <a:solidFill>
                  <a:srgbClr val="33ccff"/>
                </a:solidFill>
                <a:latin typeface="Arial"/>
              </a:rPr>
              <a:t>Österre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ff"/>
                </a:solidFill>
                <a:latin typeface="Arial"/>
              </a:rPr>
              <a:t>Kristin Shey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rcRect l="19188" t="20525" r="17502" b="4426"/>
          <a:stretch/>
        </p:blipFill>
        <p:spPr>
          <a:xfrm>
            <a:off x="0" y="0"/>
            <a:ext cx="4876920" cy="5410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rcRect l="18611" t="26058" r="19999" b="38984"/>
          <a:stretch/>
        </p:blipFill>
        <p:spPr>
          <a:xfrm>
            <a:off x="4876920" y="0"/>
            <a:ext cx="4267080" cy="3186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304920" y="563868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fahre mit dem Flugzeug von Chicago nach Graz. Es kostet $988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12716" t="34516" r="10835" b="2035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1449360" y="1143000"/>
            <a:ext cx="685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fahre mit der Bahn von Graz nach Wien dann, von Wien nach Graz. Es kostet $1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0"/>
          <p:cNvSpPr/>
          <p:nvPr/>
        </p:nvSpPr>
        <p:spPr>
          <a:xfrm flipV="1">
            <a:off x="7010280" y="2743200"/>
            <a:ext cx="990720" cy="1371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0d0d0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2666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n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4114800" y="304920"/>
            <a:ext cx="4716360" cy="3504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0" y="137160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besuche die Historisches Zentrum von Wien in der Nähe von der Van Dyck P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will Peterskirche s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besuche die kunst im das Kunsthistorisches Museum neben dem Naturhistoisches Muse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werde die Tiere im Tiergarten Schonbrunner besuc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erde die Staatsoper Hause seh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werde mit meiner Familie in Graz und Wien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ontent Placeholder 3" descr=""/>
          <p:cNvPicPr/>
          <p:nvPr/>
        </p:nvPicPr>
        <p:blipFill>
          <a:blip r:embed="rId2"/>
          <a:srcRect l="-11506" t="0" r="-11506" b="0"/>
          <a:stretch/>
        </p:blipFill>
        <p:spPr>
          <a:xfrm>
            <a:off x="1752480" y="1295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0" y="114300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Hause hat eine Kü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 hat eine Hallenb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iner Familie  hat eine Sa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s kostet $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gzeug Karte + Bahn Karte + Das Hotel + Mi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988 + $164 + $0 + $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Macht Zum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20:55:18Z</dcterms:created>
  <dc:creator>CUSD220</dc:creator>
  <dc:description/>
  <dc:language>en-US</dc:language>
  <cp:lastModifiedBy>Helen Sheyka</cp:lastModifiedBy>
  <dcterms:modified xsi:type="dcterms:W3CDTF">2012-01-11T01:51:09Z</dcterms:modified>
  <cp:revision>7</cp:revision>
  <dc:subject/>
  <dc:title>Slide 1</dc:title>
</cp:coreProperties>
</file>